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9DE-4C6E-457B-A54F-955D6EFC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76F-76F1-4E41-8DF5-9C6C092B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424-706B-4075-8B39-FF097481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B5D-88E9-4DD2-A620-97D548CF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C3DF-9812-4286-A94B-208AE8F3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9F59-05DA-447B-A5CE-AF38DB75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F25A-9B09-41EF-B2DD-28A6A4C4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9BBB-5845-440E-AFB8-E8F5F73A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C860-AECD-4466-B20E-58C1F2D7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1D36-48BD-4DBE-9CA0-91091227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4C5A-059F-4A48-BE56-6D95CD55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D31-334D-4177-8D2F-C97118DD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A500-AC12-4538-96D3-05EE36D7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51D0-39A1-47B5-B720-A8CB2FE6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D1FE-E3F9-4C49-BD82-13BDF51E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71D4-8305-4AF6-A651-060109B5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BDDC-70B9-4053-8638-23C86658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C20-B842-443B-9482-0ADDB9A8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30B-A206-4FE0-A438-F9016B62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1D8-3E6C-4847-84B5-4606CE8E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D0AC-D6EE-426F-802D-8902F1B3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DE60-BF31-4F98-9633-12EA2D85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703-0BBC-4BD9-B1DE-B57F20D2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990-7F7F-4FA7-B524-5DC0A715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c7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633427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EF54-D284-4317-87F3-6BA364884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c7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633427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0803-B21A-4F14-8DD1-81EA9DDB7B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8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e9ddcd"/>
                </a:solidFill>
                <a:latin typeface="Arial"/>
              </a:rPr>
              <a:t>Integrated Pest Management (IPM)</a:t>
            </a:r>
            <a:br>
              <a:rPr sz="5700"/>
            </a:br>
            <a:r>
              <a:rPr b="0" lang="en-US" sz="3600" spc="-1" strike="noStrike">
                <a:solidFill>
                  <a:srgbClr val="e9ddcd"/>
                </a:solidFill>
                <a:latin typeface="Arial"/>
              </a:rPr>
              <a:t>Prevention, observation, and intervention</a:t>
            </a:r>
            <a:endParaRPr b="0" lang="en-US" sz="36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y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rgan Lis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Harmful Pest in US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mywor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ider Mi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ea Beat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rvest Mi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bbage Butterf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2628720" cy="1779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6705720" y="1447920"/>
            <a:ext cx="2305080" cy="1523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4724280" y="3429000"/>
            <a:ext cx="4219560" cy="29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4"/>
          <a:stretch/>
        </p:blipFill>
        <p:spPr>
          <a:xfrm>
            <a:off x="838080" y="4556160"/>
            <a:ext cx="3200400" cy="2149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What are Pesticides?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bstance or mixture used to eradicate pes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 occur naturally or be synthet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 be harmfu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5715000" y="3246480"/>
            <a:ext cx="2590920" cy="361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Why Are Pesticides Harmful?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eat the food in which these harmful chemicals put on, endangering 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crease chance of canc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etic dam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rm helpful inse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 harm animals around these harmful pesticid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DD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iginally used to control malaria and typh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ghly toxic to aquatic lif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l known for reducing reproduction in bi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ld eag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own Pelic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egrine Falc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334120" y="3922560"/>
            <a:ext cx="2819160" cy="2706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Immunity to pesticides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st are getting more genetically fit to not let these effect th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 become immune to it after a whi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How does IPM reduce use of pesticides?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using IPM chemical control, is the last res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ain goal is to see if pest are actually harmfu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not than nothing goes 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"Crop Pests." 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Insectclopedia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 N.p., n.d. Web. 21 Feb. 2010. 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     &lt;http://www.pedagonet.com/Insectclopedia/pest2.html&gt;. 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"DDT (Dichlorodiphenyl-Trichloroacetic Acid) - Ecological Damage." 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Jrank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 N.p., 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     n.d. Web. 21 Feb. 2010. &lt;http://science.jrank.org/pages/1963/ 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     DDT-Dichlorodiphenyl-Trichloroacetic-Acid-Ecological-damage.html&gt;. 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"Pesticides." </a:t>
            </a: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Spirtus Temporis</a:t>
            </a: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. N.p., n.d. Web. 21 Feb. 2010. 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     &lt;http://www.spiritus-temporis.com/pesticide/dangers-of-pesticides.html&gt;. 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S Environmental Protection Agency. "Integrated Pest Management Principals." 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     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U.S. Enviromental Protection Agency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 N.p., 10 Sept. 2009. Web. 17 Feb. 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     2010. &lt;http://www.epa.gov/opp00001/factsheets/ipm.htm&gt;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00120" y="990720"/>
            <a:ext cx="8010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What is IPM?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PM is an environmentally sensitive and effective way of pest manag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s information and research found on life cycles of pest and how they interact with environ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eapest and least hazardeo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Basic IPM Components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ceptable Pest leve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so know as action threshol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ically seeing a single pest, doesn’t mean control measures must be ta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5" descr="pp863-1"/>
          <p:cNvPicPr/>
          <p:nvPr/>
        </p:nvPicPr>
        <p:blipFill>
          <a:blip r:embed="rId1"/>
          <a:stretch/>
        </p:blipFill>
        <p:spPr>
          <a:xfrm>
            <a:off x="685800" y="3733920"/>
            <a:ext cx="3505320" cy="29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21832E-006 L 0.15 -0.2567 E">
                                      <p:cBhvr>
                                        <p:cTn id="8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Basic IPM components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nitor and identify p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e must look around and see if thee is any pest, not just once a month, but multiple tim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st be able to identify pest, some insects or weeds fou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uld actually b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pfu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Picture 5" descr="lep-t-19"/>
          <p:cNvPicPr/>
          <p:nvPr/>
        </p:nvPicPr>
        <p:blipFill>
          <a:blip r:embed="rId1"/>
          <a:stretch/>
        </p:blipFill>
        <p:spPr>
          <a:xfrm>
            <a:off x="5562720" y="4114800"/>
            <a:ext cx="3581280" cy="2400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Basic IPM components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ultural Contr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al of this is to make the land less favorable for pe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could includ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op ro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ing where to plant 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rap cro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lanting of certain less favorable pla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justing time of harv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Basic IPM components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hysical and Mechanical contr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ysical barri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ow covers or trenches prevent insects from reaching plants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nd picking of p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icky boards/tape to catch flying insec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umerous other trapping techniqu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" name="Picture 5" descr="trench"/>
          <p:cNvPicPr/>
          <p:nvPr/>
        </p:nvPicPr>
        <p:blipFill>
          <a:blip r:embed="rId1"/>
          <a:stretch/>
        </p:blipFill>
        <p:spPr>
          <a:xfrm>
            <a:off x="7467480" y="1066680"/>
            <a:ext cx="1492200" cy="1524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Basic IPM components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emical contr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st step, if all others didn’t work than resort to th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y to use ecofriendly chemic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ganic/biotanical pesticides preferr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6934320" y="4267080"/>
            <a:ext cx="1752480" cy="2336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1600200" y="4191120"/>
            <a:ext cx="2895480" cy="2554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What Are Pests?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organism, usually an insect, in  which is presences is unwanted, and most likely harmfu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 also be used to refer to harmful weeds, fungi, diseases, and viru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://www.youtube.com/watch?v=n-UdcA_dXPw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819520" y="4572000"/>
            <a:ext cx="2939760" cy="22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9:04:58Z</dcterms:created>
  <dc:creator>SASD</dc:creator>
  <dc:description/>
  <dc:language>en-US</dc:language>
  <cp:lastModifiedBy>Morgan</cp:lastModifiedBy>
  <dcterms:modified xsi:type="dcterms:W3CDTF">2010-02-22T03:35:35Z</dcterms:modified>
  <cp:revision>17</cp:revision>
  <dc:subject/>
  <dc:title>Integrated Pest Management (IPM)</dc:title>
</cp:coreProperties>
</file>